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4AEB0-4D26-4779-9206-D42BE7728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F2D59-633A-4575-BA84-20400D2D2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E7880-0860-4738-AEA6-F433BB17F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C96AA-29D1-4A1D-B420-6286B0D40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18DED-FE01-4157-A5CF-092B02807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0196E-309C-4EFE-8DFA-AB74D9F26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A7333-921E-4CD6-8DB4-F3733C58B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EA0EF-DC9A-460C-94F8-5FAB181F6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AF7B2-131E-47AE-99AA-78AB2FBFA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D54C0-74A7-4190-8BE0-C004FD352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81564-FE68-4A00-953E-408C68565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B50E1-798C-4500-987B-22568CAB2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266FB-94F3-4139-B7B4-C7ED71FC1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DFBD1-1226-4463-A80C-FF793D36D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B280C-F5B9-4D88-92E2-825BB10F0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C7EBCA-7733-4129-B1A9-88232CEFE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8F20A-2AE1-4816-83F0-689EE0E69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89BBF-52E4-467B-A8E5-2709FDE55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6721D-12F5-447C-9331-B9F174708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28812-E2E7-4970-ACD2-307E479AD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B6AF7-DC16-4732-8034-4C684D041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E077F-D5F3-4A33-BB91-5A1BFED31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F54ED-7BFA-41E0-B69C-A83A867F9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CAEEA-DA46-48EE-B9DA-11A40EA8A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95C4-BBDC-4E5B-AF32-F854608EB627}"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46AF-64E1-418A-9DF3-1EDF74AE4208}"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Tech Team</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Ms. Melfi</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Troubleshooting Your PC</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r printing problems check the default printer.</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heck out the Help and Support icon on the Start Menu.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Explor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a:t>
            </a:r>
            <a:r>
              <a:rPr b="0" i="1" lang="en-US" sz="2400" spc="-1" strike="noStrike" u="sng">
                <a:solidFill>
                  <a:srgbClr val="212164"/>
                </a:solidFill>
                <a:uFillTx/>
                <a:latin typeface="Arial"/>
              </a:rPr>
              <a:t>tep 1</a:t>
            </a:r>
            <a:r>
              <a:rPr b="0" i="1" lang="en-US" sz="2400" spc="-1" strike="noStrike">
                <a:solidFill>
                  <a:srgbClr val="212164"/>
                </a:solidFill>
                <a:latin typeface="Arial"/>
              </a:rPr>
              <a:t> - The place to check to see if the radio is on.</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a:t>
            </a:r>
            <a:r>
              <a:rPr b="0" i="1" lang="en-US" sz="2400" spc="-1" strike="noStrike" u="sng">
                <a:solidFill>
                  <a:srgbClr val="212164"/>
                </a:solidFill>
                <a:uFillTx/>
                <a:latin typeface="Arial"/>
              </a:rPr>
              <a:t>tep 2</a:t>
            </a:r>
            <a:r>
              <a:rPr b="0" i="1" lang="en-US" sz="2400" spc="-1" strike="noStrike">
                <a:solidFill>
                  <a:srgbClr val="212164"/>
                </a:solidFill>
                <a:latin typeface="Arial"/>
              </a:rPr>
              <a:t> - How to check which printer is set as the default printer.</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12164"/>
                </a:solidFill>
                <a:uFillTx/>
                <a:latin typeface="Arial"/>
              </a:rPr>
              <a:t>Step 3</a:t>
            </a:r>
            <a:r>
              <a:rPr b="0" i="1" lang="en-US" sz="2400" spc="-1" strike="noStrike">
                <a:solidFill>
                  <a:srgbClr val="212164"/>
                </a:solidFill>
                <a:latin typeface="Arial"/>
              </a:rPr>
              <a:t> - Write out the clicks to find the Device Manager.</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12164"/>
                </a:solidFill>
                <a:uFillTx/>
                <a:latin typeface="Arial"/>
              </a:rPr>
              <a:t>Step 4</a:t>
            </a:r>
            <a:r>
              <a:rPr b="0" i="1" lang="en-US" sz="2400" spc="-1" strike="noStrike">
                <a:solidFill>
                  <a:srgbClr val="212164"/>
                </a:solidFill>
                <a:latin typeface="Arial"/>
              </a:rPr>
              <a:t> - The colors in the Display are all messed up. Where might I go to troubleshoot?</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12164"/>
                </a:solidFill>
                <a:uFillTx/>
                <a:latin typeface="Arial"/>
              </a:rPr>
              <a:t>Step 5</a:t>
            </a:r>
            <a:r>
              <a:rPr b="0" i="1" lang="en-US" sz="2400" spc="-1" strike="noStrike">
                <a:solidFill>
                  <a:srgbClr val="212164"/>
                </a:solidFill>
                <a:latin typeface="Arial"/>
              </a:rPr>
              <a:t> - Find out what the Disk Defragmenter does. Don't run it, just locate it.</a:t>
            </a:r>
            <a:br>
              <a:rPr sz="2400"/>
            </a:br>
            <a:r>
              <a:rPr b="0" i="1"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6"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hare with your peers one thing you learned today that you didn’t know before.</a:t>
            </a:r>
            <a:endParaRPr b="0" lang="en-US" sz="3200" spc="-1" strike="noStrike">
              <a:solidFill>
                <a:srgbClr val="212164"/>
              </a:solidFill>
              <a:latin typeface="Arial"/>
            </a:endParaRPr>
          </a:p>
        </p:txBody>
      </p:sp>
      <p:sp>
        <p:nvSpPr>
          <p:cNvPr id="118"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9"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0"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21"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the most common pc issues we have to troubleshoot?</a:t>
            </a: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25800" indent="-32580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we determine if it is a hardware or a software issue?</a:t>
            </a: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25800" indent="-32580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we troubleshoot the most common issues?</a:t>
            </a:r>
            <a:br>
              <a:rPr sz="3200"/>
            </a:b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can save a lot of time if we can fix minor issues in the classroom instead of having to send the laptop to Ms. Melfi and the Tech Team. Today we’re going to explore some steps we might take to fix simple problem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100"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Your teachers have been telling me that one of the most demanding challenges they face when integrating technology into the classroom is troubleshooting when a student has an issue with their device."</a:t>
            </a:r>
            <a:br>
              <a:rPr sz="2800"/>
            </a:br>
            <a:r>
              <a:rPr b="0" lang="en-US" sz="2800" spc="-1" strike="noStrike">
                <a:solidFill>
                  <a:srgbClr val="212164"/>
                </a:solidFill>
                <a:latin typeface="Arial"/>
              </a:rPr>
              <a:t> </a:t>
            </a:r>
            <a:endParaRPr b="0" lang="en-US" sz="2800" spc="-1" strike="noStrike">
              <a:solidFill>
                <a:srgbClr val="212164"/>
              </a:solidFill>
              <a:latin typeface="Arial"/>
            </a:endParaRPr>
          </a:p>
          <a:p>
            <a:pPr marL="339480" indent="-3394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t is important for Tech Team members to be able to troubleshoot minor issues in the classrooms.</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rst, ask the student what the problem is. Very often, they are vague, saying only that "My laptop is messed up."</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Ask for clarification, "What are you trying to do and what is your computer doing?"</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ke the student demonstrate what they have tried to do.</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Check to see if any applications are running. Close everything.</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Next, try to replicate the task, that is, Try to do it yourself. If you cannot do it, attempt to figure out what the problem is.</a:t>
            </a:r>
            <a:br>
              <a:rPr sz="2000"/>
            </a:br>
            <a:r>
              <a:rPr b="0" lang="en-US" sz="2000" spc="-1" strike="noStrike">
                <a:solidFill>
                  <a:srgbClr val="212164"/>
                </a:solidFill>
                <a:latin typeface="Arial"/>
              </a:rPr>
              <a:t> </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You need to determine if it is a hardware issue, which may require sending it to the depot, or if it is a software issue, which you may be able to resolve yourself.</a:t>
            </a:r>
            <a:br>
              <a:rPr sz="2800"/>
            </a:br>
            <a:r>
              <a:rPr b="0" lang="en-US" sz="2800" spc="-1" strike="noStrike">
                <a:solidFill>
                  <a:srgbClr val="212164"/>
                </a:solidFill>
                <a:latin typeface="Arial"/>
              </a:rPr>
              <a:t> </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ost times you should restart the machine. Very often this fixes the problem.</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C sluggish? Try this: make sure there is no animated background on the desktop.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roblems in applications like MS Word or Inspiration are software issues. If restarting doesn't help, try the Help menus to resolve them.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roblems that occur with the display, volume, disk drive or keyboard are types of hardware issues. For these let’s explore the  Device Manager.</a:t>
            </a:r>
            <a:br>
              <a:rPr sz="2800"/>
            </a:b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r problems connecting to the Internet, make sure the internet switch is turned on and the blue light is lit next to the power light.</a:t>
            </a:r>
            <a:endParaRPr b="0" lang="en-US" sz="2000" spc="-1" strike="noStrike">
              <a:solidFill>
                <a:srgbClr val="212164"/>
              </a:solidFill>
              <a:latin typeface="Arial"/>
            </a:endParaRPr>
          </a:p>
          <a:p>
            <a:pPr marL="329040" indent="-32904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ke sure your wireless connectivity icon has green signals coming out of it and your ascending signal bars are lit.</a:t>
            </a:r>
            <a:endParaRPr b="0" lang="en-US" sz="2000" spc="-1" strike="noStrike">
              <a:solidFill>
                <a:srgbClr val="212164"/>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29040" indent="-32904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If you see a red X, after turning the switch on, right click, on the icon and click REPAIR.</a:t>
            </a:r>
            <a:endParaRPr b="0" lang="en-US" sz="2000" spc="-1" strike="noStrike">
              <a:solidFill>
                <a:srgbClr val="212164"/>
              </a:solidFill>
              <a:latin typeface="Arial"/>
            </a:endParaRPr>
          </a:p>
          <a:p>
            <a:pPr marL="329040" indent="-32904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r hardware issues that cannot be resolved inform the Tech Team.</a:t>
            </a:r>
            <a:endParaRPr b="0" lang="en-US" sz="2000" spc="-1" strike="noStrike">
              <a:solidFill>
                <a:srgbClr val="212164"/>
              </a:solidFill>
              <a:latin typeface="Arial"/>
            </a:endParaRPr>
          </a:p>
          <a:p>
            <a:pPr marL="329040" indent="-32904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If the device is working, and you still can't resolve the issue - send it to the Tech Team. </a:t>
            </a:r>
            <a:endParaRPr b="0" lang="en-US" sz="2000" spc="-1" strike="noStrike">
              <a:solidFill>
                <a:srgbClr val="212164"/>
              </a:solidFill>
              <a:latin typeface="Arial"/>
            </a:endParaRPr>
          </a:p>
          <a:p>
            <a:pPr marL="329040" indent="-32904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If the device is not working at all - send it to the Tech Team.</a:t>
            </a:r>
            <a:br>
              <a:rPr sz="2000"/>
            </a:br>
            <a:r>
              <a:rPr b="0" lang="en-US" sz="2000" spc="-1" strike="noStrike">
                <a:solidFill>
                  <a:srgbClr val="212164"/>
                </a:solidFill>
                <a:latin typeface="Arial"/>
              </a:rPr>
              <a:t> </a:t>
            </a:r>
            <a:endParaRPr b="0" lang="en-US" sz="2000" spc="-1" strike="noStrike">
              <a:solidFill>
                <a:srgbClr val="212164"/>
              </a:solidFill>
              <a:latin typeface="Arial"/>
            </a:endParaRPr>
          </a:p>
        </p:txBody>
      </p:sp>
      <p:pic>
        <p:nvPicPr>
          <p:cNvPr id="109" name="" descr=""/>
          <p:cNvPicPr/>
          <p:nvPr/>
        </p:nvPicPr>
        <p:blipFill>
          <a:blip r:embed="rId1"/>
          <a:stretch/>
        </p:blipFill>
        <p:spPr>
          <a:xfrm>
            <a:off x="7238880" y="2743200"/>
            <a:ext cx="1524240" cy="10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E</cp:lastModifiedBy>
  <dcterms:modified xsi:type="dcterms:W3CDTF">2008-10-28T16:26:34Z</dcterms:modified>
  <cp:revision>6</cp:revision>
  <dc:subject/>
  <dc:title>Workshop Title</dc:title>
</cp:coreProperties>
</file>